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4F4-907D-412C-BF66-74AA852E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113-96F4-48D8-A39E-6CE5DDA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C20-0463-4E57-8A9D-AF30646B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6BB-462C-4042-9B07-667C4708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E40A-1BBC-44C3-ACE2-C75EE176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323F-CB8D-44F3-BDF7-3D77DA3D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EE72-F957-4FD3-BD70-06A6ED7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A9B4-223B-4EAC-9D35-2F6A9F16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0101-C16C-4CAA-A82D-73153434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2548-749B-4AC0-84A3-80B7E50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D986-D1D0-4692-A683-24B6E45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278-8030-4EB7-80B7-C89FB02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66F2-3190-4796-B49E-DCDDF54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B9DF-A372-4A48-9118-E9321259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421-E578-45C5-AB86-B160DE29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F0C8-A364-4B56-B31C-2D0BA49A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E3FA-2CDB-4A0F-8EBC-7B5DC32F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5262-F5DB-48C0-9A21-78EC3930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1E16-B5ED-469F-B021-EC0DCEDC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E11B-BD30-4488-B914-7E51DCC9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D37D-2E53-47AD-8069-82DE2CCE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F7E9-782C-4BAB-A5EC-929D819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22F-D649-44E9-A31A-834E3F0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97AB-E2F5-4C2B-BC72-3F1726B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1096-82B4-4A38-A3FC-8326B25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B354-388C-46C6-B2E3-E5AC7F7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67D5-DAD9-4C41-B630-EEEA922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3704-8C17-4C8C-B49A-FE9BEF6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49C3-E28C-49E0-864A-7759C15A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BF9A-818B-4DFC-AC61-0E94554D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07A-35FA-4C6B-9668-376A3DA1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416-6914-48A2-BA7D-E5A9FB0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C05-360A-4497-9426-E49BFE62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D6F-CA3C-47AB-829F-39312F25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FCA-D944-4B1E-BA0A-102EA29A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D79-7126-4A72-A589-51EE13FF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30F1-5629-4021-922D-7CB49BB1A0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0024-E9E3-4B60-B7C1-A8A8785AF6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1DE9-0606-4228-A146-0C37470A8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TRABAJO COLABORATIV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JUDITH CARDOSO MARTÍNEZ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5080" y="56088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12 DE SEPTIEMBRE DE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1787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vid W. Johnson et al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lica: aprendizaje cooperativo es trabajar conjuntamente para concretar distribuidamente una met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817236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97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16000" y="527040"/>
            <a:ext cx="6624720" cy="5133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720" y="38088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COOPERATIVO VS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ÉRMINOS NO AFINES AL T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ivo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orizació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et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250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D.W. Johnson, R.T.,&amp; Holubec, E.J. (1999). El aprendizaje cooperativo en el aula. Barcelona: Pai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C. (1993). Aprendizaje Colaborativo, referencia virtual del Instituto Tecnológico de Monterrey, México http://campus.gda.itesm.mx/c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Kaye, (1991). en Salinas, J. (2000). El aprendizaje colaborativo con los nuevos canales de comunicación, 199 – 227.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Panitz, T., and Panitz, P., (1998). Encouraging the Use of Collaborative Learning in Higher Education. In J.J. Forest (ed.) Issues Facing International Education, June, 1998, NY, NY: Garland Publis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alinas, J. (2000). El aprendizaje colaborativo con los nuevos canales de comunicación, 199 – 227;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Vygotsky, L.S. (1979). El desarrollo de los procesos sicológicos superiores. Barcelona: Crí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Zañartu, L.M. (2002). Educar a jóvenes marginales con ordenadores en red. Comunicar, 18, / www.2uhu.es/comunicar/revi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632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rabajo colaborativo :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Definició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0440" y="717840"/>
            <a:ext cx="7466040" cy="5995800"/>
            <a:chOff x="730440" y="717840"/>
            <a:chExt cx="7466040" cy="5995800"/>
          </a:xfrm>
        </p:grpSpPr>
        <p:sp>
          <p:nvSpPr>
            <p:cNvPr id="142" name="_s32778"/>
            <p:cNvSpPr/>
            <p:nvPr/>
          </p:nvSpPr>
          <p:spPr>
            <a:xfrm flipH="1" flipV="1">
              <a:off x="2662920" y="296568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_s32777"/>
            <p:cNvSpPr/>
            <p:nvPr/>
          </p:nvSpPr>
          <p:spPr>
            <a:xfrm>
              <a:off x="730440" y="1843200"/>
              <a:ext cx="2071800" cy="1497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4) Interacción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promotora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_s32786"/>
            <p:cNvSpPr/>
            <p:nvPr/>
          </p:nvSpPr>
          <p:spPr>
            <a:xfrm flipH="1">
              <a:off x="2665800" y="4088520"/>
              <a:ext cx="90432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_s32785"/>
            <p:cNvSpPr/>
            <p:nvPr/>
          </p:nvSpPr>
          <p:spPr>
            <a:xfrm>
              <a:off x="734040" y="4093200"/>
              <a:ext cx="2071800" cy="1497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3) Habilidade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colaborac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_s32784"/>
            <p:cNvSpPr/>
            <p:nvPr/>
          </p:nvSpPr>
          <p:spPr>
            <a:xfrm>
              <a:off x="4465440" y="445932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_s32783"/>
            <p:cNvSpPr/>
            <p:nvPr/>
          </p:nvSpPr>
          <p:spPr>
            <a:xfrm>
              <a:off x="3430440" y="5216040"/>
              <a:ext cx="2071800" cy="1497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2) Inter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dependencia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32782"/>
            <p:cNvSpPr/>
            <p:nvPr/>
          </p:nvSpPr>
          <p:spPr>
            <a:xfrm>
              <a:off x="5356800" y="40867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_s32781"/>
            <p:cNvSpPr/>
            <p:nvPr/>
          </p:nvSpPr>
          <p:spPr>
            <a:xfrm>
              <a:off x="6123960" y="4088520"/>
              <a:ext cx="2072520" cy="14979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Respon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individua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_s32788"/>
            <p:cNvSpPr/>
            <p:nvPr/>
          </p:nvSpPr>
          <p:spPr>
            <a:xfrm flipV="1">
              <a:off x="5356800" y="29635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32787"/>
            <p:cNvSpPr/>
            <p:nvPr/>
          </p:nvSpPr>
          <p:spPr>
            <a:xfrm>
              <a:off x="6121080" y="1840680"/>
              <a:ext cx="2071800" cy="1497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quiere trabaj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juntos y cooper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 logro de me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_s32780"/>
            <p:cNvSpPr/>
            <p:nvPr/>
          </p:nvSpPr>
          <p:spPr>
            <a:xfrm flipV="1">
              <a:off x="4461840" y="221364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32779"/>
            <p:cNvSpPr/>
            <p:nvPr/>
          </p:nvSpPr>
          <p:spPr>
            <a:xfrm>
              <a:off x="3427560" y="717840"/>
              <a:ext cx="2071800" cy="1497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) Proces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grup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_s32776"/>
            <p:cNvSpPr/>
            <p:nvPr/>
          </p:nvSpPr>
          <p:spPr>
            <a:xfrm>
              <a:off x="3427560" y="2968200"/>
              <a:ext cx="2071800" cy="1497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Driscoll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Vergara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8920" y="7840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structivismo sociocultura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3640" cy="6856560"/>
            <a:chOff x="0" y="0"/>
            <a:chExt cx="9143640" cy="6856560"/>
          </a:xfrm>
        </p:grpSpPr>
        <p:cxnSp>
          <p:nvCxnSpPr>
            <p:cNvPr id="157" name="_s34839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717160" y="4712400"/>
              <a:ext cx="857520" cy="252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34837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3095280" y="4187520"/>
              <a:ext cx="857520" cy="105228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34835"/>
            <p:cNvCxnSpPr>
              <a:stCxn id="164" idx="0"/>
              <a:endCxn id="162" idx="2"/>
            </p:cNvCxnSpPr>
            <p:nvPr/>
          </p:nvCxnSpPr>
          <p:spPr>
            <a:xfrm flipH="1" flipV="1" rot="5400000">
              <a:off x="2045520" y="4189680"/>
              <a:ext cx="857520" cy="104796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34832"/>
            <p:cNvCxnSpPr>
              <a:stCxn id="162" idx="0"/>
              <a:endCxn id="166" idx="2"/>
            </p:cNvCxnSpPr>
            <p:nvPr/>
          </p:nvCxnSpPr>
          <p:spPr>
            <a:xfrm flipH="1" flipV="1" rot="5400000">
              <a:off x="3356640" y="1354680"/>
              <a:ext cx="857520" cy="15750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34820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598032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34821"/>
            <p:cNvCxnSpPr>
              <a:stCxn id="159" idx="0"/>
              <a:endCxn id="166" idx="2"/>
            </p:cNvCxnSpPr>
            <p:nvPr/>
          </p:nvCxnSpPr>
          <p:spPr>
            <a:xfrm flipV="1" rot="16200000">
              <a:off x="4929840" y="1355760"/>
              <a:ext cx="857520" cy="157284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34822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230688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34823"/>
            <p:cNvSpPr/>
            <p:nvPr/>
          </p:nvSpPr>
          <p:spPr>
            <a:xfrm>
              <a:off x="3671280" y="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(Definiciones)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34824"/>
            <p:cNvSpPr/>
            <p:nvPr/>
          </p:nvSpPr>
          <p:spPr>
            <a:xfrm>
              <a:off x="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dquisi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destrezas y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ctitudes qu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ocurren po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grupal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34825"/>
            <p:cNvSpPr/>
            <p:nvPr/>
          </p:nvSpPr>
          <p:spPr>
            <a:xfrm>
              <a:off x="524556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as partes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promete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 trabaja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lgo juntos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labo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unicación y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negociación claves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34826"/>
            <p:cNvSpPr/>
            <p:nvPr/>
          </p:nvSpPr>
          <p:spPr>
            <a:xfrm>
              <a:off x="734472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ituación en q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2 o más person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n  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ntentan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r alg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forma conjun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34831"/>
            <p:cNvSpPr/>
            <p:nvPr/>
          </p:nvSpPr>
          <p:spPr>
            <a:xfrm>
              <a:off x="209880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trucción d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enso a travé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coopera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miembro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34834"/>
            <p:cNvSpPr/>
            <p:nvPr/>
          </p:nvSpPr>
          <p:spPr>
            <a:xfrm>
              <a:off x="1051560" y="514260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e compart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utoridad y 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cepta  respon-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de accione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grupales</a:t>
              </a:r>
              <a:r>
                <a:rPr b="0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34836"/>
            <p:cNvSpPr/>
            <p:nvPr/>
          </p:nvSpPr>
          <p:spPr>
            <a:xfrm>
              <a:off x="3150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En </a:t>
              </a:r>
              <a:r>
                <a:rPr b="1" lang="en-US" sz="1500" spc="-1" strike="noStrike">
                  <a:solidFill>
                    <a:srgbClr val="cc0000"/>
                  </a:solidFill>
                  <a:latin typeface="Arial"/>
                </a:rPr>
                <a:t>coope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 está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iseñada par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ogro de  me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por un grupo qu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trabaja junto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34838"/>
            <p:cNvSpPr/>
            <p:nvPr/>
          </p:nvSpPr>
          <p:spPr>
            <a:xfrm>
              <a:off x="5247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Grupo decide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cóm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alizar  tarea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cedimientos,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ivisión trabajo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reas a realizar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35640" y="177336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Gro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1773360"/>
            <a:ext cx="155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Panitz, 199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133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lina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99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llenbourg,199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¿Porqué de su importanci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ructivismo sociocultura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revolución tecnológica (Internet) donde no existen barreras culturales ni idiomáticas y cuyas características d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stantaneidad e interactivida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 hacen muy atractiv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enfoque sociocultural valorizó lo social como complemento al proceso cognitivo personalizado de cada individu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red y las Tecnologías de la Información y Comunicación, TICs, son un contexto concreto en el que puede articularse el carácter colaborativo del aprendizaj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aprendizaje tiene una dimensión individual de análisis, conceptualización y apropiación, éste se desarrolla en su mejor forma a través del aprendizaje en colaboración con otr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00360" y="3213000"/>
            <a:ext cx="287964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1720" y="1346040"/>
            <a:ext cx="30261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OBLE OBJETIV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1. Lograr su aprendiza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2,  Desarrollar 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el trabajo en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724280"/>
            <a:ext cx="4211640" cy="1729080"/>
          </a:xfrm>
          <a:prstGeom prst="parallelogram">
            <a:avLst>
              <a:gd name="adj" fmla="val 608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renden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y de cada uno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s integra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tercambi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formación y materi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yuda efectiva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ficien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Retroalimentación y 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jora en claridad de 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052640"/>
            <a:ext cx="2700360" cy="280800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EN 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renden a resol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untos  proble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habilidades lideraz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-confianz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 decision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flictos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260280"/>
            <a:ext cx="3311280" cy="2016360"/>
          </a:xfrm>
          <a:prstGeom prst="hexagon">
            <a:avLst>
              <a:gd name="adj" fmla="val 3133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valuación periód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cciones, Me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dentifican camb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para mejor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n el futu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3068640"/>
            <a:ext cx="244800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arten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tas,  Recurs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gros,  y entiend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l rol de cada u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32360" y="227664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4720" y="2924280"/>
            <a:ext cx="21420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18920" y="3860640"/>
            <a:ext cx="1081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843280" y="278136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11640" y="227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24000" y="404640"/>
            <a:ext cx="8819280" cy="5396400"/>
            <a:chOff x="324000" y="404640"/>
            <a:chExt cx="8819280" cy="5396400"/>
          </a:xfrm>
        </p:grpSpPr>
        <p:cxnSp>
          <p:nvCxnSpPr>
            <p:cNvPr id="194" name="_s2868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5736960" y="155880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28684"/>
            <p:cNvCxnSpPr>
              <a:stCxn id="198" idx="0"/>
              <a:endCxn id="196" idx="2"/>
            </p:cNvCxnSpPr>
            <p:nvPr/>
          </p:nvCxnSpPr>
          <p:spPr>
            <a:xfrm flipV="1">
              <a:off x="4733280" y="2562840"/>
              <a:ext cx="3960" cy="108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28683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2649960" y="155916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28679"/>
            <p:cNvSpPr/>
            <p:nvPr/>
          </p:nvSpPr>
          <p:spPr>
            <a:xfrm>
              <a:off x="3410640" y="40464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_s28680"/>
            <p:cNvSpPr/>
            <p:nvPr/>
          </p:nvSpPr>
          <p:spPr>
            <a:xfrm>
              <a:off x="32400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e valid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teraccione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ociales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_s28681"/>
            <p:cNvSpPr/>
            <p:nvPr/>
          </p:nvSpPr>
          <p:spPr>
            <a:xfrm>
              <a:off x="3410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Visión del aporte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de 2 o má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dividuo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que trabaj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por meta común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_s28682"/>
            <p:cNvSpPr/>
            <p:nvPr/>
          </p:nvSpPr>
          <p:spPr>
            <a:xfrm>
              <a:off x="6497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esult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un producto má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enriquecido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cab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motivado por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acciones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y diálog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9280" y="577800"/>
            <a:ext cx="29163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411280" y="0"/>
            <a:ext cx="295128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VENTAJAS DE 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1056240"/>
            <a:ext cx="3924360" cy="25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ontribuye de un modo particular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 lograr metas de grup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adie gana méritos “a costa” del trabajo de los demá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rinda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yuda y apoyo mutu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en  cumplimiento de  tare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s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dividualmente responsa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e de parte equitativa de trabajo grup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4581360"/>
            <a:ext cx="5003640" cy="2087640"/>
          </a:xfrm>
          <a:prstGeom prst="parallelogram">
            <a:avLst>
              <a:gd name="adj" fmla="val 5992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sadas e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terpersona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nfianz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utua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municación c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 sin ambigüedad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oyo mutuo y   resolución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structiva  de conflictos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Procesos de reflexión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bre su proce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decisiones en cua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 su funcionamien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76280"/>
            <a:ext cx="2700360" cy="259236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 intencional y bas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  l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heterogene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 basa en diferenci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habilidades, así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o característic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persona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 géner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133720"/>
            <a:ext cx="3456000" cy="230328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xpresión formalizad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valores y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accion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ética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que imperan  en un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ituación 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señanza-aprendizaj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unidad de aprendizaj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la que se respe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a expresión de pun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vista diferen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84400">
            <a:off x="6361560" y="388440"/>
            <a:ext cx="19875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da estudi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521800">
            <a:off x="6143040" y="3860640"/>
            <a:ext cx="2998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Actividades colabor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493600">
            <a:off x="66600" y="4208040"/>
            <a:ext cx="2292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l grupo se some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493600">
            <a:off x="2772720" y="1557000"/>
            <a:ext cx="264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trabajo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808000">
            <a:off x="236520" y="159840"/>
            <a:ext cx="201420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ormación grupo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66"/>
                </a:solidFill>
                <a:latin typeface="Arial"/>
              </a:rPr>
              <a:t>Trabajo cooperativo vs colaborativ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ienen algunas características que  los diferencian notoriamente. Cada paradigma representa un extremo del proceso de enseñanza – aprendizaje que va de ser altamente estructurado por el profesor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operativo)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hasta dejar la responsabilidad del aprendizaje principalmente en el estudiante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laborativo).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381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2:50Z</dcterms:created>
  <dc:creator> judith cardoso</dc:creator>
  <dc:description/>
  <dc:language>en-US</dc:language>
  <cp:lastModifiedBy>Judith Cardoso</cp:lastModifiedBy>
  <dcterms:modified xsi:type="dcterms:W3CDTF">2007-10-02T04:52:23Z</dcterms:modified>
  <cp:revision>28</cp:revision>
  <dc:subject/>
  <dc:title>TRABAJO COLABORATIVO</dc:title>
</cp:coreProperties>
</file>