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6F1-BA3C-4264-B9AF-9CF82846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DF4-FE00-429E-AF8F-93648176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EFA-95BF-432D-9410-9554BEE9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3E7-A9CB-4E5D-8103-6ADDB626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BBD6-F61A-4DAD-BACA-30FFEA99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0E3F-E1B3-42EE-9E1E-2EA6DE1E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E68E-3694-4917-8F9F-685C93B1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D144-424D-43BC-8DCD-1403163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15AA-60B5-46E9-9115-9E39C99C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590A-DCCC-477B-BBD9-7E3EB3AB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8490-9492-430F-8F10-00827A1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A0E-C32E-4D27-A285-521BD764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51B-DE3D-438A-B94E-827032D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421D-B6EB-4548-9346-C2ABDDF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B67-F193-479B-B335-AA37B14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71E-D1DD-43F7-AEDD-16758805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625-C3CC-4598-8E53-046664D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737D1-4B8B-4AF1-B234-4D167DD9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474C-A30E-492B-9501-F3A2762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45AA5-7750-48F7-B7F1-C603CACB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6E38-4601-4FAC-9CD7-B0EAEB71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90E1-4E05-4A98-AA11-9FEA01A5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8D0-9813-43AB-A05E-9837E29C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1407-EC4B-4514-A07B-3A58C0C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D489D-1034-44E3-A859-2E7F4CF5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D181-D5EA-430B-93F6-B5F80ED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5E62-5654-4F91-AF92-EC41E6C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3F79F-C29E-4AEB-9E33-40BF993B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BF33-F210-485E-B560-8998D03E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6673-4F98-4AF4-8218-3399C61F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B07-32F0-4DCF-89B2-8C3A784E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C91-799C-490E-92FF-947DE3F0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74C-8D92-4ABF-BD5A-6260FB49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29D-DC1A-41D4-986E-6535FB3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829-6113-4BF0-A9B3-E2FBFBF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09A-C577-41D1-9A00-CA2BAF9C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692E-0096-46DA-9BA2-2D17CC22A62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006F-2C1C-4916-A1B8-85BC1091F6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1D4-23F8-49C8-9025-0B95B793E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JUDITH CARDOSO MARTÍNEZ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5080" y="5608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12 DE SEPTIEMBRE DE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vid W. Johnson et al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lica: aprendizaje cooperativo es trabajar conjuntamente para concretar distribuidamente una me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8172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97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16000" y="527040"/>
            <a:ext cx="6624720" cy="5133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720" y="38088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COOPERATIVO VS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3277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32786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32785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32784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3278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32782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32781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32788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3278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32780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3277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32776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3483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4837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4835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34832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34820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34821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22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34823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34824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34825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34826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34831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3483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34836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Porqué de su importanci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vismo sociocultur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revolución tecnológica (Internet) donde no existen barreras culturales ni idiomáticas y cuyas características d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stantaneidad e interactivid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 hacen muy atractiv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enfoque sociocultural valorizó lo social como complemento al proceso cognitivo personalizado de cada individu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red y las Tecnologías de la Información y Comunicación, TICs, son un contexto concreto en el que puede articularse el carácter colaborativo del aprendizaj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aprendizaje tiene una dimensión individual de análisis, conceptualización y apropiación, éste se desarrolla en su mejor forma a través del aprendizaje en colaboración con otr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4" name="_s2868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28684"/>
            <p:cNvCxnSpPr>
              <a:stCxn id="198" idx="0"/>
              <a:endCxn id="196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28683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286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_s286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_s286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286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Trabajo cooperativo vs colaborativ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ienen algunas características que  los diferencian notoriamente. Cada paradigma representa un extremo del proceso de enseñanza – aprendizaje que va de ser altamente estructurado por el profesor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operativo)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hasta dejar la responsabilidad del aprendizaje principalmente en el estudiante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laborativo).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81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 judith cardoso</dc:creator>
  <dc:description/>
  <dc:language>en-US</dc:language>
  <cp:lastModifiedBy>Judith Cardoso</cp:lastModifiedBy>
  <dcterms:modified xsi:type="dcterms:W3CDTF">2007-10-02T04:52:23Z</dcterms:modified>
  <cp:revision>28</cp:revision>
  <dc:subject/>
  <dc:title>TRABAJO COLABORATIVO</dc:title>
</cp:coreProperties>
</file>