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9A8B-6D21-45FB-A9A0-2D99BA5B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5742-ACEA-45DC-AD27-4D5DF973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330C-FA74-49DD-91F4-2BD63CC05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A5E8-E9CB-41E7-947E-C5786F05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5879-6CC1-4A99-9FAA-616CADB21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9C5E-DEBF-4988-818B-C7956639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C39E-FE9E-4C7D-8A53-83D7E5AA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6477-D26A-400C-A28F-E4A1EBFA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C643-87FD-401C-9F34-1D8D4234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F0EC-755C-4E27-BEC3-3937191E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1FAB-8A5E-4B48-A60F-0708AF64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6DBB-C604-4FAC-9B51-C885A0B3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D0D3-D5D9-478C-8DE0-4B9A8E46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133E-45CD-41D1-B23D-1330BF36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8DAC-53BC-4E37-BDE2-C75B158E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960A-C561-4D2B-8FFE-A719D718D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C5FC-8037-4D5F-9851-543101436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3EAC4-7F43-486E-B540-EEFBAFC40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3A063-FE29-4F9C-BCC1-C33DD6FC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CAA14-A8AE-4BB5-8C9F-8C9ABB57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2CA87-03A2-4F99-BC56-9B80857B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A4823-1F97-4AA0-B883-B68AA12E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DADB-CE8E-4872-8D37-E05D7358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5D2F7-3C8C-499B-B51C-07AF9EB5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35870-775E-4A66-B4F8-A47F70E3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DD0E1-01B6-4F6A-A34C-D242E777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71499-5DCC-440D-8611-24539E12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713F0-2B85-4E83-8D5B-71430781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54A97-F599-496D-83CA-AC702E97B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38DE0-C725-424A-9B33-0F04405C6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BE0E-84BB-46B2-8A85-240E6F02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7B4C-98C5-4B6D-8C6A-434A4FDC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8D88-E64C-4643-95F2-F12FCF64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9072-545B-4FBD-9B2D-20D81984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91CA-E086-42F6-9B34-2F0CC38D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7DE4-F5D7-49B6-9668-16B370A3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8C1D-BB39-4E50-872A-ED6769AC866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B2F9-E721-48E9-A69F-D0F7A061917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2263-808E-45A0-813B-F4AFE335D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66"/>
                </a:solidFill>
                <a:latin typeface="Arial"/>
              </a:rPr>
              <a:t>TRABAJO COLABORATIVO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66"/>
                </a:solidFill>
                <a:latin typeface="Arial"/>
              </a:rPr>
              <a:t>JUDITH CARDOSO MARTÍNEZ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35080" y="5608800"/>
            <a:ext cx="33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12 DE SEPTIEMBRE DE 2007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4360" y="3573360"/>
            <a:ext cx="178740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avid W. Johnson et al, 199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xplica: aprendizaje cooperativo es trabajar conjuntamente para concretar distribuidamente una meta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971280" y="549360"/>
            <a:ext cx="8172360" cy="53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797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116000" y="527040"/>
            <a:ext cx="6624720" cy="51339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80720" y="380880"/>
            <a:ext cx="53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TRABAJO COOPERATIVO VS COLABOR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20108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TÉRMINOS NO AFINES AL T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sivo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morización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dividual 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eti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BIBLIOGRAF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39280" y="2361960"/>
            <a:ext cx="842508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Johnson, D.W. Johnson, R.T.,&amp; Holubec, E.J. (1999). El aprendizaje cooperativo en el aula. Barcelona: Paido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Johnson, C. (1993). Aprendizaje Colaborativo, referencia virtual del Instituto Tecnológico de Monterrey, México http://campus.gda.itesm.mx/ci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Kaye, (1991). en Salinas, J. (2000). El aprendizaje colaborativo con los nuevos canales de comunicación, 199 – 227. En Cabero, J. (ed.) (2000). Nuevas tecnologías aplicadas a la educación. Madrid: Síntesi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Panitz, T., and Panitz, P., (1998). Encouraging the Use of Collaborative Learning in Higher Education. In J.J. Forest (ed.) Issues Facing International Education, June, 1998, NY, NY: Garland Publish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Salinas, J. (2000). El aprendizaje colaborativo con los nuevos canales de comunicación, 199 – 227; en Cabero, J. (ed.) (2000). Nuevas tecnologías aplicadas a la educación. Madrid: Síntesi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Vygotsky, L.S. (1979). El desarrollo de los procesos sicológicos superiores. Barcelona: Crític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Zañartu, L.M. (2002). Educar a jóvenes marginales con ordenadores en red. Comunicar, 18, / www.2uhu.es/comunicar/revis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632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Trabajo colaborativo : </a:t>
            </a:r>
            <a:r>
              <a:rPr b="1" lang="es-MX" sz="2400" spc="-1" strike="noStrike">
                <a:solidFill>
                  <a:srgbClr val="cc0000"/>
                </a:solidFill>
                <a:latin typeface="Arial"/>
              </a:rPr>
              <a:t>Definició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30440" y="717840"/>
            <a:ext cx="7466040" cy="5995800"/>
            <a:chOff x="730440" y="717840"/>
            <a:chExt cx="7466040" cy="5995800"/>
          </a:xfrm>
        </p:grpSpPr>
        <p:sp>
          <p:nvSpPr>
            <p:cNvPr id="142" name="_s32778"/>
            <p:cNvSpPr/>
            <p:nvPr/>
          </p:nvSpPr>
          <p:spPr>
            <a:xfrm flipH="1" flipV="1">
              <a:off x="2662920" y="2965680"/>
              <a:ext cx="903960" cy="37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_s32777"/>
            <p:cNvSpPr/>
            <p:nvPr/>
          </p:nvSpPr>
          <p:spPr>
            <a:xfrm>
              <a:off x="730440" y="1843200"/>
              <a:ext cx="2071800" cy="1497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4) Interacción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promotora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: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_s32786"/>
            <p:cNvSpPr/>
            <p:nvPr/>
          </p:nvSpPr>
          <p:spPr>
            <a:xfrm flipH="1">
              <a:off x="2665800" y="4088520"/>
              <a:ext cx="904320" cy="37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_s32785"/>
            <p:cNvSpPr/>
            <p:nvPr/>
          </p:nvSpPr>
          <p:spPr>
            <a:xfrm>
              <a:off x="734040" y="4093200"/>
              <a:ext cx="2071800" cy="14976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3) Habilidades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de colaboración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_s32784"/>
            <p:cNvSpPr/>
            <p:nvPr/>
          </p:nvSpPr>
          <p:spPr>
            <a:xfrm>
              <a:off x="4465440" y="4459320"/>
              <a:ext cx="0" cy="75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_s32783"/>
            <p:cNvSpPr/>
            <p:nvPr/>
          </p:nvSpPr>
          <p:spPr>
            <a:xfrm>
              <a:off x="3430440" y="5216040"/>
              <a:ext cx="2071800" cy="14976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2) Inter-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dependencia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positiva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_s32782"/>
            <p:cNvSpPr/>
            <p:nvPr/>
          </p:nvSpPr>
          <p:spPr>
            <a:xfrm>
              <a:off x="5356800" y="4086720"/>
              <a:ext cx="903960" cy="37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_s32781"/>
            <p:cNvSpPr/>
            <p:nvPr/>
          </p:nvSpPr>
          <p:spPr>
            <a:xfrm>
              <a:off x="6123960" y="4088520"/>
              <a:ext cx="2072520" cy="149796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Respon-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sabilidad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individual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_s32788"/>
            <p:cNvSpPr/>
            <p:nvPr/>
          </p:nvSpPr>
          <p:spPr>
            <a:xfrm flipV="1">
              <a:off x="5356800" y="2963520"/>
              <a:ext cx="903960" cy="37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_s32787"/>
            <p:cNvSpPr/>
            <p:nvPr/>
          </p:nvSpPr>
          <p:spPr>
            <a:xfrm>
              <a:off x="6121080" y="1840680"/>
              <a:ext cx="2071800" cy="149760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Requiere trabajar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juntos y cooperar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en  logro de meta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del grupo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_s32780"/>
            <p:cNvSpPr/>
            <p:nvPr/>
          </p:nvSpPr>
          <p:spPr>
            <a:xfrm flipV="1">
              <a:off x="4461840" y="2213640"/>
              <a:ext cx="0" cy="75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_s32779"/>
            <p:cNvSpPr/>
            <p:nvPr/>
          </p:nvSpPr>
          <p:spPr>
            <a:xfrm>
              <a:off x="3427560" y="717840"/>
              <a:ext cx="2071800" cy="14979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) Proceso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de grup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_s32776"/>
            <p:cNvSpPr/>
            <p:nvPr/>
          </p:nvSpPr>
          <p:spPr>
            <a:xfrm>
              <a:off x="3427560" y="2968200"/>
              <a:ext cx="2071800" cy="1497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c0000"/>
                  </a:solidFill>
                  <a:latin typeface="Arial"/>
                </a:rPr>
                <a:t>Driscoll y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c0000"/>
                  </a:solidFill>
                  <a:latin typeface="Arial"/>
                </a:rPr>
                <a:t>Vergara,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c0000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88920" y="78408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onstructivismo sociocultural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0" y="0"/>
            <a:ext cx="9143640" cy="6856560"/>
            <a:chOff x="0" y="0"/>
            <a:chExt cx="9143640" cy="6856560"/>
          </a:xfrm>
        </p:grpSpPr>
        <p:cxnSp>
          <p:nvCxnSpPr>
            <p:cNvPr id="157" name="_s34839"/>
            <p:cNvCxnSpPr>
              <a:stCxn id="158" idx="0"/>
              <a:endCxn id="159" idx="2"/>
            </p:cNvCxnSpPr>
            <p:nvPr/>
          </p:nvCxnSpPr>
          <p:spPr>
            <a:xfrm flipV="1" rot="16200000">
              <a:off x="5717160" y="4712400"/>
              <a:ext cx="857520" cy="2520"/>
            </a:xfrm>
            <a:prstGeom prst="bentConnector3">
              <a:avLst>
                <a:gd name="adj1" fmla="val 133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" name="_s34837"/>
            <p:cNvCxnSpPr>
              <a:stCxn id="161" idx="0"/>
              <a:endCxn id="162" idx="2"/>
            </p:cNvCxnSpPr>
            <p:nvPr/>
          </p:nvCxnSpPr>
          <p:spPr>
            <a:xfrm flipV="1" rot="16200000">
              <a:off x="3095280" y="4187520"/>
              <a:ext cx="857520" cy="1052280"/>
            </a:xfrm>
            <a:prstGeom prst="bentConnector3">
              <a:avLst>
                <a:gd name="adj1" fmla="val 133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34835"/>
            <p:cNvCxnSpPr>
              <a:stCxn id="164" idx="0"/>
              <a:endCxn id="162" idx="2"/>
            </p:cNvCxnSpPr>
            <p:nvPr/>
          </p:nvCxnSpPr>
          <p:spPr>
            <a:xfrm flipH="1" flipV="1" rot="5400000">
              <a:off x="2045520" y="4189680"/>
              <a:ext cx="857520" cy="1047960"/>
            </a:xfrm>
            <a:prstGeom prst="bentConnector3">
              <a:avLst>
                <a:gd name="adj1" fmla="val 133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34832"/>
            <p:cNvCxnSpPr>
              <a:stCxn id="162" idx="0"/>
              <a:endCxn id="166" idx="2"/>
            </p:cNvCxnSpPr>
            <p:nvPr/>
          </p:nvCxnSpPr>
          <p:spPr>
            <a:xfrm flipH="1" flipV="1" rot="5400000">
              <a:off x="3356640" y="1354680"/>
              <a:ext cx="857520" cy="1575000"/>
            </a:xfrm>
            <a:prstGeom prst="bentConnector3">
              <a:avLst>
                <a:gd name="adj1" fmla="val 133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34820"/>
            <p:cNvCxnSpPr>
              <a:stCxn id="168" idx="0"/>
              <a:endCxn id="166" idx="2"/>
            </p:cNvCxnSpPr>
            <p:nvPr/>
          </p:nvCxnSpPr>
          <p:spPr>
            <a:xfrm flipV="1" rot="16200000">
              <a:off x="5980320" y="305280"/>
              <a:ext cx="857520" cy="3673800"/>
            </a:xfrm>
            <a:prstGeom prst="bentConnector3">
              <a:avLst>
                <a:gd name="adj1" fmla="val 133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34821"/>
            <p:cNvCxnSpPr>
              <a:stCxn id="159" idx="0"/>
              <a:endCxn id="166" idx="2"/>
            </p:cNvCxnSpPr>
            <p:nvPr/>
          </p:nvCxnSpPr>
          <p:spPr>
            <a:xfrm flipV="1" rot="16200000">
              <a:off x="4929840" y="1355760"/>
              <a:ext cx="857520" cy="1572840"/>
            </a:xfrm>
            <a:prstGeom prst="bentConnector3">
              <a:avLst>
                <a:gd name="adj1" fmla="val 133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0" name="_s34822"/>
            <p:cNvCxnSpPr>
              <a:stCxn id="171" idx="0"/>
              <a:endCxn id="166" idx="2"/>
            </p:cNvCxnSpPr>
            <p:nvPr/>
          </p:nvCxnSpPr>
          <p:spPr>
            <a:xfrm flipH="1" flipV="1" rot="5400000">
              <a:off x="2306880" y="305280"/>
              <a:ext cx="857520" cy="3673800"/>
            </a:xfrm>
            <a:prstGeom prst="bentConnector3">
              <a:avLst>
                <a:gd name="adj1" fmla="val 133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6" name="_s34823"/>
            <p:cNvSpPr/>
            <p:nvPr/>
          </p:nvSpPr>
          <p:spPr>
            <a:xfrm>
              <a:off x="3671280" y="0"/>
              <a:ext cx="1798920" cy="17139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cc0000"/>
                  </a:solidFill>
                  <a:latin typeface="Arial"/>
                </a:rPr>
                <a:t>TRABAJO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cc0000"/>
                  </a:solidFill>
                  <a:latin typeface="Arial"/>
                </a:rPr>
                <a:t>COLABORATIVO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cc0000"/>
                  </a:solidFill>
                  <a:latin typeface="Arial"/>
                </a:rPr>
                <a:t>(Definiciones)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_s34824"/>
            <p:cNvSpPr/>
            <p:nvPr/>
          </p:nvSpPr>
          <p:spPr>
            <a:xfrm>
              <a:off x="0" y="2571120"/>
              <a:ext cx="1798920" cy="17139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Adquisición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de destrezas y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actitudes que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ocurren por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interacción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grupal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_s34825"/>
            <p:cNvSpPr/>
            <p:nvPr/>
          </p:nvSpPr>
          <p:spPr>
            <a:xfrm>
              <a:off x="5245560" y="2571120"/>
              <a:ext cx="1798920" cy="171396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Las partes se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comprometen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a trabajar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algo juntos.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Colaboración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Comunicación y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negociación claves.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_s34826"/>
            <p:cNvSpPr/>
            <p:nvPr/>
          </p:nvSpPr>
          <p:spPr>
            <a:xfrm>
              <a:off x="7344720" y="2571120"/>
              <a:ext cx="1798920" cy="171396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Situación en qu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2 o más person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prenden  o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intentan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prender algo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en forma conjunt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_s34831"/>
            <p:cNvSpPr/>
            <p:nvPr/>
          </p:nvSpPr>
          <p:spPr>
            <a:xfrm>
              <a:off x="2098800" y="2571120"/>
              <a:ext cx="1798920" cy="17139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Construcción de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consenso a través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de cooperación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de miembros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del grupo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3366"/>
                  </a:solidFill>
                  <a:latin typeface="Arial"/>
                </a:rPr>
                <a:t>.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_s34834"/>
            <p:cNvSpPr/>
            <p:nvPr/>
          </p:nvSpPr>
          <p:spPr>
            <a:xfrm>
              <a:off x="1051560" y="5142600"/>
              <a:ext cx="1798920" cy="17139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Se comparte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autoridad y  se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acepta  respon-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sabilidad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de acciones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grupales</a:t>
              </a:r>
              <a:r>
                <a:rPr b="0" lang="es-E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_s34836"/>
            <p:cNvSpPr/>
            <p:nvPr/>
          </p:nvSpPr>
          <p:spPr>
            <a:xfrm>
              <a:off x="3150360" y="5142600"/>
              <a:ext cx="1797120" cy="17139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En </a:t>
              </a:r>
              <a:r>
                <a:rPr b="1" lang="en-US" sz="1500" spc="-1" strike="noStrike">
                  <a:solidFill>
                    <a:srgbClr val="cc0000"/>
                  </a:solidFill>
                  <a:latin typeface="Arial"/>
                </a:rPr>
                <a:t>cooperación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interacción está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diseñada para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logro de  meta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por un grupo que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trabaja junto.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_s34838"/>
            <p:cNvSpPr/>
            <p:nvPr/>
          </p:nvSpPr>
          <p:spPr>
            <a:xfrm>
              <a:off x="5247360" y="5142600"/>
              <a:ext cx="1797120" cy="171396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Grupo decide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cómo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realizar  tarea,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procedimientos,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división trabajo,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tareas a realizar</a:t>
              </a:r>
              <a:r>
                <a:rPr b="0" lang="en-US" sz="1500" spc="-1" strike="noStrike">
                  <a:solidFill>
                    <a:srgbClr val="003366"/>
                  </a:solidFill>
                  <a:latin typeface="Arial"/>
                </a:rPr>
                <a:t>.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1781280" cy="17877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435640" y="1773360"/>
            <a:ext cx="141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Gros, 200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1773360"/>
            <a:ext cx="155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Panitz, 1997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2133720"/>
            <a:ext cx="158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alinas, 200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99280" y="206064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Dillenbourg,1999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¿Porqué de su importancia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structivismo sociocultural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 revolución tecnológica (Internet) donde no existen barreras culturales ni idiomáticas y cuyas características de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nstantaneidad e interactivida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la hacen muy atractiv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 enfoque sociocultural valorizó lo social como complemento al proceso cognitivo personalizado de cada individuo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 red y las Tecnologías de la Información y Comunicación, TICs, son un contexto concreto en el que puede articularse el carácter colaborativo del aprendizaj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 aprendizaje tiene una dimensión individual de análisis, conceptualización y apropiación, éste se desarrolla en su mejor forma a través del aprendizaje en colaboración con otro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700360" y="3213000"/>
            <a:ext cx="2879640" cy="1079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CARACTERÍSTIC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TRABAJ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COLABOR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11720" y="1346040"/>
            <a:ext cx="3026160" cy="1465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COOPER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DOBLE OBJETIVO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1. Lograr su aprendizaj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2,  Desarrollar habilidad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del trabajo en equip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932360" y="4724280"/>
            <a:ext cx="4211640" cy="1729080"/>
          </a:xfrm>
          <a:prstGeom prst="parallelogram">
            <a:avLst>
              <a:gd name="adj" fmla="val 6089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RESPONSABILIDA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Comprenden trabaj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Individu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y de cada uno d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los integrant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0800000">
            <a:off x="-360" y="4510080"/>
            <a:ext cx="4140360" cy="2347920"/>
          </a:xfrm>
          <a:custGeom>
            <a:avLst/>
            <a:gdLst>
              <a:gd name="textAreaLeft" fmla="*/ 910440 w 4140360"/>
              <a:gd name="textAreaRight" fmla="*/ 3229920 w 4140360"/>
              <a:gd name="textAreaTop" fmla="*/ 516240 h 2347920"/>
              <a:gd name="textAreaBottom" fmla="*/ 1831680 h 23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COMUN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Intercambian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información y material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Ayuda efectiva 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eficient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Retroalimentación y anális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Mejora en claridad de 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052640"/>
            <a:ext cx="2700360" cy="2808000"/>
          </a:xfrm>
          <a:prstGeom prst="octagon">
            <a:avLst>
              <a:gd name="adj" fmla="val 2928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TRABAJ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EN  EQUIP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aprenden a resolv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juntos  problem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habilidades liderazg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comunicación-confianza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toma  decision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solu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conflictos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56000" y="260280"/>
            <a:ext cx="3311280" cy="2016360"/>
          </a:xfrm>
          <a:prstGeom prst="hexagon">
            <a:avLst>
              <a:gd name="adj" fmla="val 31331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AUTOEVALUAC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Evaluación periódica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Acciones, Met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Identifican cambi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para mejora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en el futur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00720" y="3068640"/>
            <a:ext cx="2448000" cy="1152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Comparten</a:t>
            </a: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Metas,  Recurs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Logros,  y entiend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el rol de cada un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932360" y="2276640"/>
            <a:ext cx="115092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24720" y="2924280"/>
            <a:ext cx="21420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76720" y="4149720"/>
            <a:ext cx="863640" cy="57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618920" y="3860640"/>
            <a:ext cx="108108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2843280" y="2781360"/>
            <a:ext cx="7920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211640" y="227628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324000" y="404640"/>
            <a:ext cx="8819280" cy="5396400"/>
            <a:chOff x="324000" y="404640"/>
            <a:chExt cx="8819280" cy="5396400"/>
          </a:xfrm>
        </p:grpSpPr>
        <p:cxnSp>
          <p:nvCxnSpPr>
            <p:cNvPr id="194" name="_s28685"/>
            <p:cNvCxnSpPr>
              <a:stCxn id="195" idx="0"/>
              <a:endCxn id="196" idx="2"/>
            </p:cNvCxnSpPr>
            <p:nvPr/>
          </p:nvCxnSpPr>
          <p:spPr>
            <a:xfrm flipV="1" rot="16200000">
              <a:off x="5736960" y="1558800"/>
              <a:ext cx="1080000" cy="3087360"/>
            </a:xfrm>
            <a:prstGeom prst="bentConnector3">
              <a:avLst>
                <a:gd name="adj1" fmla="val 128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7" name="_s28684"/>
            <p:cNvCxnSpPr>
              <a:stCxn id="198" idx="0"/>
              <a:endCxn id="196" idx="2"/>
            </p:cNvCxnSpPr>
            <p:nvPr/>
          </p:nvCxnSpPr>
          <p:spPr>
            <a:xfrm flipV="1">
              <a:off x="4733280" y="2562840"/>
              <a:ext cx="3960" cy="1080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9" name="_s28683"/>
            <p:cNvCxnSpPr>
              <a:stCxn id="200" idx="0"/>
              <a:endCxn id="196" idx="2"/>
            </p:cNvCxnSpPr>
            <p:nvPr/>
          </p:nvCxnSpPr>
          <p:spPr>
            <a:xfrm flipH="1" flipV="1" rot="5400000">
              <a:off x="2649960" y="1559160"/>
              <a:ext cx="1080000" cy="3087360"/>
            </a:xfrm>
            <a:prstGeom prst="bentConnector3">
              <a:avLst>
                <a:gd name="adj1" fmla="val 128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6" name="_s28679"/>
            <p:cNvSpPr/>
            <p:nvPr/>
          </p:nvSpPr>
          <p:spPr>
            <a:xfrm>
              <a:off x="3410640" y="404640"/>
              <a:ext cx="2645640" cy="2158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300" spc="-1" strike="noStrike">
                  <a:solidFill>
                    <a:srgbClr val="cc0000"/>
                  </a:solidFill>
                  <a:latin typeface="Arial"/>
                </a:rPr>
                <a:t>TRABAJO 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300" spc="-1" strike="noStrike">
                  <a:solidFill>
                    <a:srgbClr val="cc0000"/>
                  </a:solidFill>
                  <a:latin typeface="Arial"/>
                </a:rPr>
                <a:t>COLABORATIVO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_s28680"/>
            <p:cNvSpPr/>
            <p:nvPr/>
          </p:nvSpPr>
          <p:spPr>
            <a:xfrm>
              <a:off x="324000" y="3642480"/>
              <a:ext cx="2645640" cy="21585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Se validan 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interacciones 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sociales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_s28681"/>
            <p:cNvSpPr/>
            <p:nvPr/>
          </p:nvSpPr>
          <p:spPr>
            <a:xfrm>
              <a:off x="3410640" y="3642480"/>
              <a:ext cx="2645640" cy="21585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Visión del aporte 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de 2 o más 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individuos 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que trabajan 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por meta común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_s28682"/>
            <p:cNvSpPr/>
            <p:nvPr/>
          </p:nvSpPr>
          <p:spPr>
            <a:xfrm>
              <a:off x="6497640" y="3642480"/>
              <a:ext cx="2645640" cy="215856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Resultad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un producto más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enriquecido y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acabad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motivado por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interacciones,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negociacione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y diálogo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79280" y="577800"/>
            <a:ext cx="29163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411280" y="0"/>
            <a:ext cx="2951280" cy="1295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VENTAJAS DE TRABAJ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COLABOR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19640" y="1056240"/>
            <a:ext cx="3924360" cy="250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ontribuye de un modo particular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a lograr metas de grupo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adie gana méritos “a costa” del trabajo de los demás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rindan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ayuda y apoyo mutuo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en  cumplimiento de  tare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s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individualmente responsab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e de parte equitativa de trabajo grup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40360" y="4581360"/>
            <a:ext cx="5003640" cy="2087640"/>
          </a:xfrm>
          <a:prstGeom prst="parallelogram">
            <a:avLst>
              <a:gd name="adj" fmla="val 5992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asadas en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habilidad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interpersonale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confianza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utua,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municación clar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 sin ambigüedades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poyo mutuo y   resolución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nstructiva  de conflictos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-360" y="4510080"/>
            <a:ext cx="4140360" cy="2347920"/>
          </a:xfrm>
          <a:custGeom>
            <a:avLst/>
            <a:gdLst>
              <a:gd name="textAreaLeft" fmla="*/ 910440 w 4140360"/>
              <a:gd name="textAreaRight" fmla="*/ 3229920 w 4140360"/>
              <a:gd name="textAreaTop" fmla="*/ 516240 h 2347920"/>
              <a:gd name="textAreaBottom" fmla="*/ 1831680 h 23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3366"/>
                </a:solidFill>
                <a:latin typeface="Arial"/>
              </a:rPr>
              <a:t>Procesos de reflexión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sobre su proces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de trabaj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Toma decisiones en cuant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a su funcionamiento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476280"/>
            <a:ext cx="2700360" cy="2592360"/>
          </a:xfrm>
          <a:prstGeom prst="octagon">
            <a:avLst>
              <a:gd name="adj" fmla="val 2928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Es intencional y basad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en  la 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heterogeneidad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e basa en diferencia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e habilidades, así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omo característica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e personalidad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y género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79640" y="2133720"/>
            <a:ext cx="3456000" cy="230328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Expresión formalizada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de </a:t>
            </a:r>
            <a:r>
              <a:rPr b="1" i="1" lang="es-ES" sz="1600" spc="-1" strike="noStrike">
                <a:solidFill>
                  <a:srgbClr val="003366"/>
                </a:solidFill>
                <a:latin typeface="Arial"/>
              </a:rPr>
              <a:t>valores y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3366"/>
                </a:solidFill>
                <a:latin typeface="Arial"/>
              </a:rPr>
              <a:t>accione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3366"/>
                </a:solidFill>
                <a:latin typeface="Arial"/>
              </a:rPr>
              <a:t>éticas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 que imperan  en una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situación d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enseñanza-aprendizaj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Comunidad de aprendizaj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en la que se respeta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la expresión de punt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de vista diferent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20084400">
            <a:off x="6361560" y="388440"/>
            <a:ext cx="198756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ada estudia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20521800">
            <a:off x="6143040" y="3860640"/>
            <a:ext cx="299844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Arial"/>
              </a:rPr>
              <a:t>Actividades colaborativ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20493600">
            <a:off x="66600" y="4208040"/>
            <a:ext cx="229248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l grupo se some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20493600">
            <a:off x="2772720" y="1557000"/>
            <a:ext cx="26467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Arial"/>
              </a:rPr>
              <a:t>El trabajo colabor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20808000">
            <a:off x="236520" y="159840"/>
            <a:ext cx="2014200" cy="580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ormación grupos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6666"/>
                </a:solidFill>
                <a:latin typeface="Arial"/>
              </a:rPr>
              <a:t>Trabajo cooperativo vs colaborativ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55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Tienen algunas características que  los diferencian notoriamente. Cada paradigma representa un extremo del proceso de enseñanza – aprendizaje que va de ser altamente estructurado por el profesor </a:t>
            </a:r>
            <a:r>
              <a:rPr b="1" lang="es-ES" sz="2800" spc="-1" strike="noStrike">
                <a:solidFill>
                  <a:srgbClr val="cc0000"/>
                </a:solidFill>
                <a:latin typeface="Arial"/>
              </a:rPr>
              <a:t>(cooperativo)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 hasta dejar la responsabilidad del aprendizaje principalmente en el estudiante </a:t>
            </a:r>
            <a:r>
              <a:rPr b="1" lang="es-ES" sz="2800" spc="-1" strike="noStrike">
                <a:solidFill>
                  <a:srgbClr val="cc0000"/>
                </a:solidFill>
                <a:latin typeface="Arial"/>
              </a:rPr>
              <a:t>(colaborativo).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1800360" cy="14288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7524720" y="0"/>
            <a:ext cx="13813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7T20:02:50Z</dcterms:created>
  <dc:creator> judith cardoso</dc:creator>
  <dc:description/>
  <dc:language>en-US</dc:language>
  <cp:lastModifiedBy>Judith Cardoso</cp:lastModifiedBy>
  <dcterms:modified xsi:type="dcterms:W3CDTF">2007-10-02T04:52:23Z</dcterms:modified>
  <cp:revision>28</cp:revision>
  <dc:subject/>
  <dc:title>TRABAJO COLABORATIVO</dc:title>
</cp:coreProperties>
</file>