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BAC-E640-4918-B13C-2F8AA7A3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A32-8CF9-456A-BCA2-CF721CA8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72F-9919-4F3D-9B43-515D0061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A33-6179-4F52-8604-38ADDAD9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45ED-4847-405E-84DB-8901EB6F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8F7E-4CC7-4DB7-9ECA-672A9918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1F3D-1CCD-4149-A547-CE22B7F2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6FE1-30C2-4C88-8C3E-B1573F51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E309-0ADC-43E7-9567-BFE6BBF8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3FF7-8887-4379-8AE2-E078E2FD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7375-1338-40DC-90AF-B05F002B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C31-583A-46D9-B079-4E9CE3D5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721C-ADC7-485D-944E-15E486D1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6E10-F72E-42D2-80DD-CB23112C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E4CD-8BA1-4518-A378-BC2FEB32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8C75-479F-4168-A875-56EA090C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2872-2B4D-4E58-A531-BFFA239D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B57D-2008-4836-8ADD-48A40109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4BD9-5ED8-4236-850C-F3B59D4C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69AD6-FB45-4BA4-9D4A-1C824EC7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6C8FA-8896-4267-8AF9-0B4A2F1F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747EB-857C-490F-B9A2-1379975A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7A5-61D3-4774-90D8-E1F86ED5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B3397-3F93-4F7E-8B38-3BAAB1E9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F5293-6878-43B0-A3A7-49137DD9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83A4-6E11-4533-B5CC-FE6875C6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E8531-4C26-47CE-9430-CE69D36C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59403-9382-40F4-9A13-1E6DA2C0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7724-6C8F-4B58-8029-FCEABAAB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EA2F0-ED6A-44BF-A379-BBB7A2C0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D22F-5730-4DEE-A279-8A887237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69A-E569-4847-A907-B5538B34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694-066A-4568-AA43-32F06637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F0B-D149-45DD-8033-DBEEC7B6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1353-3293-4D2C-9E49-9DAFDC09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6EF-5C70-4453-80FF-99D7852E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DEBC-C5D4-4AE7-A651-D6AE69BFC17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5FBF-54FF-45D9-8028-1D2C7627E76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17D1-3196-4EE4-89BA-7C01B247F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TRABAJO COLABORATIV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66"/>
                </a:solidFill>
                <a:latin typeface="Arial"/>
              </a:rPr>
              <a:t>JUDITH CARDOSO MARTÍNEZ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5080" y="560880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12 DE SEPTIEMBRE DE 200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3573360"/>
            <a:ext cx="17874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vid W. Johnson et al, 199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xplica: aprendizaje cooperativo es trabajar conjuntamente para concretar distribuidamente una meta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971280" y="549360"/>
            <a:ext cx="817236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797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116000" y="527040"/>
            <a:ext cx="6624720" cy="5133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80720" y="380880"/>
            <a:ext cx="53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TRABAJO COOPERATIVO VS 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20108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TÉRMINOS NO AFINES AL T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ivo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morización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eti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BIBLIOGRAF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42508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ohnson, D.W. Johnson, R.T.,&amp; Holubec, E.J. (1999). El aprendizaje cooperativo en el aula. Barcelona: Paido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ohnson, C. (1993). Aprendizaje Colaborativo, referencia virtual del Instituto Tecnológico de Monterrey, México http://campus.gda.itesm.mx/ci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Kaye, (1991). en Salinas, J. (2000). El aprendizaje colaborativo con los nuevos canales de comunicación, 199 – 227. En Cabero, J. (ed.) (2000). Nuevas tecnologías aplicadas a la educación. Madrid: Síntesi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Panitz, T., and Panitz, P., (1998). Encouraging the Use of Collaborative Learning in Higher Education. In J.J. Forest (ed.) Issues Facing International Education, June, 1998, NY, NY: Garland Publish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alinas, J. (2000). El aprendizaje colaborativo con los nuevos canales de comunicación, 199 – 227; en Cabero, J. (ed.) (2000). Nuevas tecnologías aplicadas a la educación. Madrid: Síntesi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Vygotsky, L.S. (1979). El desarrollo de los procesos sicológicos superiores. Barcelona: Crític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Zañartu, L.M. (2002). Educar a jóvenes marginales con ordenadores en red. Comunicar, 18, / www.2uhu.es/comunicar/revis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7632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Trabajo colaborativo : </a:t>
            </a:r>
            <a:r>
              <a:rPr b="1" lang="es-MX" sz="2400" spc="-1" strike="noStrike">
                <a:solidFill>
                  <a:srgbClr val="cc0000"/>
                </a:solidFill>
                <a:latin typeface="Arial"/>
              </a:rPr>
              <a:t>Definició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30440" y="717840"/>
            <a:ext cx="7466040" cy="5995800"/>
            <a:chOff x="730440" y="717840"/>
            <a:chExt cx="7466040" cy="5995800"/>
          </a:xfrm>
        </p:grpSpPr>
        <p:sp>
          <p:nvSpPr>
            <p:cNvPr id="142" name="_s32778"/>
            <p:cNvSpPr/>
            <p:nvPr/>
          </p:nvSpPr>
          <p:spPr>
            <a:xfrm flipH="1" flipV="1">
              <a:off x="2662920" y="296568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_s32777"/>
            <p:cNvSpPr/>
            <p:nvPr/>
          </p:nvSpPr>
          <p:spPr>
            <a:xfrm>
              <a:off x="730440" y="1843200"/>
              <a:ext cx="2071800" cy="1497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4) Interacción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promotora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_s32786"/>
            <p:cNvSpPr/>
            <p:nvPr/>
          </p:nvSpPr>
          <p:spPr>
            <a:xfrm flipH="1">
              <a:off x="2665800" y="4088520"/>
              <a:ext cx="90432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_s32785"/>
            <p:cNvSpPr/>
            <p:nvPr/>
          </p:nvSpPr>
          <p:spPr>
            <a:xfrm>
              <a:off x="734040" y="4093200"/>
              <a:ext cx="2071800" cy="1497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3) Habilidades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e colaboració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_s32784"/>
            <p:cNvSpPr/>
            <p:nvPr/>
          </p:nvSpPr>
          <p:spPr>
            <a:xfrm>
              <a:off x="4465440" y="4459320"/>
              <a:ext cx="0" cy="75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_s32783"/>
            <p:cNvSpPr/>
            <p:nvPr/>
          </p:nvSpPr>
          <p:spPr>
            <a:xfrm>
              <a:off x="3430440" y="5216040"/>
              <a:ext cx="2071800" cy="1497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2) Inter-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dependencia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positiv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_s32782"/>
            <p:cNvSpPr/>
            <p:nvPr/>
          </p:nvSpPr>
          <p:spPr>
            <a:xfrm>
              <a:off x="5356800" y="408672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_s32781"/>
            <p:cNvSpPr/>
            <p:nvPr/>
          </p:nvSpPr>
          <p:spPr>
            <a:xfrm>
              <a:off x="6123960" y="4088520"/>
              <a:ext cx="2072520" cy="14979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Respon-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sabilidad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individual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_s32788"/>
            <p:cNvSpPr/>
            <p:nvPr/>
          </p:nvSpPr>
          <p:spPr>
            <a:xfrm flipV="1">
              <a:off x="5356800" y="2963520"/>
              <a:ext cx="903960" cy="37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_s32787"/>
            <p:cNvSpPr/>
            <p:nvPr/>
          </p:nvSpPr>
          <p:spPr>
            <a:xfrm>
              <a:off x="6121080" y="1840680"/>
              <a:ext cx="2071800" cy="149760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equiere trabajar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juntos y cooperar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  logro de meta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el grup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_s32780"/>
            <p:cNvSpPr/>
            <p:nvPr/>
          </p:nvSpPr>
          <p:spPr>
            <a:xfrm flipV="1">
              <a:off x="4461840" y="2213640"/>
              <a:ext cx="0" cy="75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_s32779"/>
            <p:cNvSpPr/>
            <p:nvPr/>
          </p:nvSpPr>
          <p:spPr>
            <a:xfrm>
              <a:off x="3427560" y="717840"/>
              <a:ext cx="2071800" cy="14979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) Proceso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e grup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_s32776"/>
            <p:cNvSpPr/>
            <p:nvPr/>
          </p:nvSpPr>
          <p:spPr>
            <a:xfrm>
              <a:off x="3427560" y="2968200"/>
              <a:ext cx="2071800" cy="1497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Driscoll y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Vergara,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8920" y="78408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nstructivismo sociocultural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0" y="0"/>
            <a:ext cx="9143640" cy="6856560"/>
            <a:chOff x="0" y="0"/>
            <a:chExt cx="9143640" cy="6856560"/>
          </a:xfrm>
        </p:grpSpPr>
        <p:cxnSp>
          <p:nvCxnSpPr>
            <p:cNvPr id="157" name="_s34839"/>
            <p:cNvCxnSpPr>
              <a:stCxn id="158" idx="0"/>
              <a:endCxn id="159" idx="2"/>
            </p:cNvCxnSpPr>
            <p:nvPr/>
          </p:nvCxnSpPr>
          <p:spPr>
            <a:xfrm flipV="1" rot="16200000">
              <a:off x="5717160" y="4712400"/>
              <a:ext cx="857520" cy="252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34837"/>
            <p:cNvCxnSpPr>
              <a:stCxn id="161" idx="0"/>
              <a:endCxn id="162" idx="2"/>
            </p:cNvCxnSpPr>
            <p:nvPr/>
          </p:nvCxnSpPr>
          <p:spPr>
            <a:xfrm flipV="1" rot="16200000">
              <a:off x="3095280" y="4187520"/>
              <a:ext cx="857520" cy="105228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34835"/>
            <p:cNvCxnSpPr>
              <a:stCxn id="164" idx="0"/>
              <a:endCxn id="162" idx="2"/>
            </p:cNvCxnSpPr>
            <p:nvPr/>
          </p:nvCxnSpPr>
          <p:spPr>
            <a:xfrm flipH="1" flipV="1" rot="5400000">
              <a:off x="2045520" y="4189680"/>
              <a:ext cx="857520" cy="104796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34832"/>
            <p:cNvCxnSpPr>
              <a:stCxn id="162" idx="0"/>
              <a:endCxn id="166" idx="2"/>
            </p:cNvCxnSpPr>
            <p:nvPr/>
          </p:nvCxnSpPr>
          <p:spPr>
            <a:xfrm flipH="1" flipV="1" rot="5400000">
              <a:off x="3356640" y="1354680"/>
              <a:ext cx="857520" cy="15750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34820"/>
            <p:cNvCxnSpPr>
              <a:stCxn id="168" idx="0"/>
              <a:endCxn id="166" idx="2"/>
            </p:cNvCxnSpPr>
            <p:nvPr/>
          </p:nvCxnSpPr>
          <p:spPr>
            <a:xfrm flipV="1" rot="16200000">
              <a:off x="5980320" y="305280"/>
              <a:ext cx="857520" cy="36738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34821"/>
            <p:cNvCxnSpPr>
              <a:stCxn id="159" idx="0"/>
              <a:endCxn id="166" idx="2"/>
            </p:cNvCxnSpPr>
            <p:nvPr/>
          </p:nvCxnSpPr>
          <p:spPr>
            <a:xfrm flipV="1" rot="16200000">
              <a:off x="4929840" y="1355760"/>
              <a:ext cx="857520" cy="157284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34822"/>
            <p:cNvCxnSpPr>
              <a:stCxn id="171" idx="0"/>
              <a:endCxn id="166" idx="2"/>
            </p:cNvCxnSpPr>
            <p:nvPr/>
          </p:nvCxnSpPr>
          <p:spPr>
            <a:xfrm flipH="1" flipV="1" rot="5400000">
              <a:off x="2306880" y="305280"/>
              <a:ext cx="857520" cy="3673800"/>
            </a:xfrm>
            <a:prstGeom prst="bentConnector3">
              <a:avLst>
                <a:gd name="adj1" fmla="val 1331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34823"/>
            <p:cNvSpPr/>
            <p:nvPr/>
          </p:nvSpPr>
          <p:spPr>
            <a:xfrm>
              <a:off x="3671280" y="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TRABAJO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COLABORATIVO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cc0000"/>
                  </a:solidFill>
                  <a:latin typeface="Arial"/>
                </a:rPr>
                <a:t>(Definiciones)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_s34824"/>
            <p:cNvSpPr/>
            <p:nvPr/>
          </p:nvSpPr>
          <p:spPr>
            <a:xfrm>
              <a:off x="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dquisició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destrezas y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ctitudes qu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ocurren por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interac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grupal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_s34825"/>
            <p:cNvSpPr/>
            <p:nvPr/>
          </p:nvSpPr>
          <p:spPr>
            <a:xfrm>
              <a:off x="524556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Las partes s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mpromete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 trabajar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algo juntos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labora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municación y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negociación claves.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_s34826"/>
            <p:cNvSpPr/>
            <p:nvPr/>
          </p:nvSpPr>
          <p:spPr>
            <a:xfrm>
              <a:off x="734472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Situación en qu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2 o más person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prenden  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intentan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prender alg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 forma conjunt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_s34831"/>
            <p:cNvSpPr/>
            <p:nvPr/>
          </p:nvSpPr>
          <p:spPr>
            <a:xfrm>
              <a:off x="2098800" y="257112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nstrucción d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consenso a través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cooperación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 miembros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el grupo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_s34834"/>
            <p:cNvSpPr/>
            <p:nvPr/>
          </p:nvSpPr>
          <p:spPr>
            <a:xfrm>
              <a:off x="1051560" y="5142600"/>
              <a:ext cx="17989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Se compart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autoridad y  se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acepta  respon-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sabilidad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de acciones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s-ES" sz="1500" spc="-1" strike="noStrike">
                  <a:solidFill>
                    <a:srgbClr val="003366"/>
                  </a:solidFill>
                  <a:latin typeface="Arial"/>
                </a:rPr>
                <a:t>grupales</a:t>
              </a:r>
              <a:r>
                <a:rPr b="0" lang="es-E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_s34836"/>
            <p:cNvSpPr/>
            <p:nvPr/>
          </p:nvSpPr>
          <p:spPr>
            <a:xfrm>
              <a:off x="3150360" y="5142600"/>
              <a:ext cx="1797120" cy="17139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En </a:t>
              </a:r>
              <a:r>
                <a:rPr b="1" lang="en-US" sz="1500" spc="-1" strike="noStrike">
                  <a:solidFill>
                    <a:srgbClr val="cc0000"/>
                  </a:solidFill>
                  <a:latin typeface="Arial"/>
                </a:rPr>
                <a:t>cooperación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interacción está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diseñada para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logro de  meta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por un grupo qu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66"/>
                  </a:solidFill>
                  <a:latin typeface="Arial"/>
                </a:rPr>
                <a:t>trabaja junto.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_s34838"/>
            <p:cNvSpPr/>
            <p:nvPr/>
          </p:nvSpPr>
          <p:spPr>
            <a:xfrm>
              <a:off x="5247360" y="5142600"/>
              <a:ext cx="1797120" cy="171396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Grupo decide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cómo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ealizar  tarea,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ocedimientos,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ivisión trabajo, 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areas a realizar</a:t>
              </a:r>
              <a:r>
                <a:rPr b="0" lang="en-US" sz="1500" spc="-1" strike="noStrike">
                  <a:solidFill>
                    <a:srgbClr val="003366"/>
                  </a:solidFill>
                  <a:latin typeface="Arial"/>
                </a:rPr>
                <a:t>. 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781280" cy="1787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435640" y="1773360"/>
            <a:ext cx="141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Gros, 20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1773360"/>
            <a:ext cx="155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Panitz, 1997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2133720"/>
            <a:ext cx="15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alinas, 20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99280" y="2060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illenbourg,1999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¿Porqué de su importancia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ructivismo sociocultural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 revolución tecnológica (Internet) donde no existen barreras culturales ni idiomáticas y cuyas características d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stantaneidad e interactivida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a hacen muy atractiv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 enfoque sociocultural valorizó lo social como complemento al proceso cognitivo personalizado de cada individuo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red y las Tecnologías de la Información y Comunicación, TICs, son un contexto concreto en el que puede articularse el carácter colaborativo del aprendizaj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l aprendizaje tiene una dimensión individual de análisis, conceptualización y apropiación, éste se desarrolla en su mejor forma a través del aprendizaje en colaboración con otro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700360" y="3213000"/>
            <a:ext cx="2879640" cy="107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1720" y="1346040"/>
            <a:ext cx="302616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OPER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DOBLE OBJETIV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1. Lograr su aprendizaj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2,  Desarrollar habil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del trabajo en equi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4724280"/>
            <a:ext cx="4211640" cy="1729080"/>
          </a:xfrm>
          <a:prstGeom prst="parallelogram">
            <a:avLst>
              <a:gd name="adj" fmla="val 6089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RESPONSABI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mprenden 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y de cada uno 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los integran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-360" y="4510080"/>
            <a:ext cx="4140360" cy="2347920"/>
          </a:xfrm>
          <a:custGeom>
            <a:avLst/>
            <a:gdLst>
              <a:gd name="textAreaLeft" fmla="*/ 910440 w 4140360"/>
              <a:gd name="textAreaRight" fmla="*/ 3229920 w 4140360"/>
              <a:gd name="textAreaTop" fmla="*/ 516240 h 2347920"/>
              <a:gd name="textAreaBottom" fmla="*/ 1831680 h 23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tercambia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nformación y materia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Ayuda efectiva 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ficient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Retroalimentación y anális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Mejora en claridad de conclusi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052640"/>
            <a:ext cx="2700360" cy="2808000"/>
          </a:xfrm>
          <a:prstGeom prst="octagon">
            <a:avLst>
              <a:gd name="adj" fmla="val 2928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TRABAJ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EN  EQUIP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aprenden a resolv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juntos  problem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habilidades liderazg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municación-confianz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oma  decision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olu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flictos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56000" y="260280"/>
            <a:ext cx="3311280" cy="2016360"/>
          </a:xfrm>
          <a:prstGeom prst="hexagon">
            <a:avLst>
              <a:gd name="adj" fmla="val 31331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AUTOEVALUAC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valuación periódic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Acciones, Met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Identifican cambi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para mejor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n el futu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00720" y="3068640"/>
            <a:ext cx="2448000" cy="115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mparten</a:t>
            </a: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Metas,  Recurs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Logros,  y entiende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el rol de cada u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932360" y="2276640"/>
            <a:ext cx="115092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24720" y="2924280"/>
            <a:ext cx="21420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149720"/>
            <a:ext cx="86364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618920" y="3860640"/>
            <a:ext cx="10810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843280" y="2781360"/>
            <a:ext cx="79200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211640" y="227628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24000" y="404640"/>
            <a:ext cx="8819280" cy="5396400"/>
            <a:chOff x="324000" y="404640"/>
            <a:chExt cx="8819280" cy="5396400"/>
          </a:xfrm>
        </p:grpSpPr>
        <p:cxnSp>
          <p:nvCxnSpPr>
            <p:cNvPr id="194" name="_s28685"/>
            <p:cNvCxnSpPr>
              <a:stCxn id="195" idx="0"/>
              <a:endCxn id="196" idx="2"/>
            </p:cNvCxnSpPr>
            <p:nvPr/>
          </p:nvCxnSpPr>
          <p:spPr>
            <a:xfrm flipV="1" rot="16200000">
              <a:off x="5736960" y="1558800"/>
              <a:ext cx="1080000" cy="308736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28684"/>
            <p:cNvCxnSpPr>
              <a:stCxn id="198" idx="0"/>
              <a:endCxn id="196" idx="2"/>
            </p:cNvCxnSpPr>
            <p:nvPr/>
          </p:nvCxnSpPr>
          <p:spPr>
            <a:xfrm flipV="1">
              <a:off x="4733280" y="2562840"/>
              <a:ext cx="3960" cy="1080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28683"/>
            <p:cNvCxnSpPr>
              <a:stCxn id="200" idx="0"/>
              <a:endCxn id="196" idx="2"/>
            </p:cNvCxnSpPr>
            <p:nvPr/>
          </p:nvCxnSpPr>
          <p:spPr>
            <a:xfrm flipH="1" flipV="1" rot="5400000">
              <a:off x="2649960" y="1559160"/>
              <a:ext cx="1080000" cy="3087360"/>
            </a:xfrm>
            <a:prstGeom prst="bentConnector3">
              <a:avLst>
                <a:gd name="adj1" fmla="val 1280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_s28679"/>
            <p:cNvSpPr/>
            <p:nvPr/>
          </p:nvSpPr>
          <p:spPr>
            <a:xfrm>
              <a:off x="3410640" y="40464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300" spc="-1" strike="noStrike">
                  <a:solidFill>
                    <a:srgbClr val="cc0000"/>
                  </a:solidFill>
                  <a:latin typeface="Arial"/>
                </a:rPr>
                <a:t>TRABAJO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300" spc="-1" strike="noStrike">
                  <a:solidFill>
                    <a:srgbClr val="cc0000"/>
                  </a:solidFill>
                  <a:latin typeface="Arial"/>
                </a:rPr>
                <a:t>COLABORATIVO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_s28680"/>
            <p:cNvSpPr/>
            <p:nvPr/>
          </p:nvSpPr>
          <p:spPr>
            <a:xfrm>
              <a:off x="32400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Se validan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interaccione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sociales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_s28681"/>
            <p:cNvSpPr/>
            <p:nvPr/>
          </p:nvSpPr>
          <p:spPr>
            <a:xfrm>
              <a:off x="341064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Visión del aporte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de 2 o má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individuos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que trabajan 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3366"/>
                  </a:solidFill>
                  <a:latin typeface="Arial"/>
                </a:rPr>
                <a:t>por meta común</a:t>
              </a:r>
              <a:endParaRPr b="0" lang="en-US" sz="2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_s28682"/>
            <p:cNvSpPr/>
            <p:nvPr/>
          </p:nvSpPr>
          <p:spPr>
            <a:xfrm>
              <a:off x="6497640" y="3642480"/>
              <a:ext cx="2645640" cy="215856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Resultad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un producto más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enriquecido y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cabad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motivado por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acciones,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negociacione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y diálogo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9280" y="577800"/>
            <a:ext cx="29163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411280" y="0"/>
            <a:ext cx="2951280" cy="1295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VENTAJAS DE TRABAJ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"/>
              </a:rPr>
              <a:t>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19640" y="1056240"/>
            <a:ext cx="3924360" cy="250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ontribuye de un modo particular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 lograr metas de grup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adie gana méritos “a costa” del trabajo de los demá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rindan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ayuda y apoyo mutuo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en  cumplimiento de  tare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s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individualmente responsab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e de parte equitativa de trabajo grup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40360" y="4581360"/>
            <a:ext cx="5003640" cy="2087640"/>
          </a:xfrm>
          <a:prstGeom prst="parallelogram">
            <a:avLst>
              <a:gd name="adj" fmla="val 5992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Basadas en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habil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interpersonale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confianza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utua,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municación cla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 sin ambigüedade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poyo mutuo y   resolución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structiva  de conflictos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-360" y="4510080"/>
            <a:ext cx="4140360" cy="2347920"/>
          </a:xfrm>
          <a:custGeom>
            <a:avLst/>
            <a:gdLst>
              <a:gd name="textAreaLeft" fmla="*/ 910440 w 4140360"/>
              <a:gd name="textAreaRight" fmla="*/ 3229920 w 4140360"/>
              <a:gd name="textAreaTop" fmla="*/ 516240 h 2347920"/>
              <a:gd name="textAreaBottom" fmla="*/ 1831680 h 23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66"/>
                </a:solidFill>
                <a:latin typeface="Arial"/>
              </a:rPr>
              <a:t>Procesos de reflexión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obre su proces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de trabaj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Toma decisiones en cuant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a su funcionamiento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76280"/>
            <a:ext cx="2700360" cy="2592360"/>
          </a:xfrm>
          <a:prstGeom prst="octagon">
            <a:avLst>
              <a:gd name="adj" fmla="val 2928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s intencional y basad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n  la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heterogeneida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e basa en diferencia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 habilidades, así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mo característica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e personalida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y géner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2133720"/>
            <a:ext cx="3456000" cy="2303280"/>
          </a:xfrm>
          <a:prstGeom prst="hexagon">
            <a:avLst>
              <a:gd name="adj" fmla="val 2862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xpresión formalizad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 </a:t>
            </a: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valores y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accion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3366"/>
                </a:solidFill>
                <a:latin typeface="Arial"/>
              </a:rPr>
              <a:t>éticas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que imperan  en un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situación d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señanza-aprendizaj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Comunidad de aprendizaj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en la que se respeta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la expresión de punt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de vista diferen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0084400">
            <a:off x="6361560" y="388440"/>
            <a:ext cx="19875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ada estudia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20521800">
            <a:off x="6143040" y="3860640"/>
            <a:ext cx="29984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Actividades colaborativ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20493600">
            <a:off x="66600" y="4208040"/>
            <a:ext cx="22924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l grupo se some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0493600">
            <a:off x="2772720" y="1557000"/>
            <a:ext cx="2646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Arial"/>
              </a:rPr>
              <a:t>El trabajo colab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0808000">
            <a:off x="236520" y="159840"/>
            <a:ext cx="201420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ormación grupos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66"/>
                </a:solidFill>
                <a:latin typeface="Arial"/>
              </a:rPr>
              <a:t>Trabajo cooperativo vs colaborativ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ienen algunas características que  los diferencian notoriamente. Cada paradigma representa un extremo del proceso de enseñanza – aprendizaje que va de ser altamente estructurado por el profesor 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(cooperativo)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hasta dejar la responsabilidad del aprendizaje principalmente en el estudiante </a:t>
            </a: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(colaborativo).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1800360" cy="1428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3813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20:02:50Z</dcterms:created>
  <dc:creator> judith cardoso</dc:creator>
  <dc:description/>
  <dc:language>en-US</dc:language>
  <cp:lastModifiedBy>Judith Cardoso</cp:lastModifiedBy>
  <dcterms:modified xsi:type="dcterms:W3CDTF">2007-10-02T04:52:23Z</dcterms:modified>
  <cp:revision>28</cp:revision>
  <dc:subject/>
  <dc:title>TRABAJO COLABORATIVO</dc:title>
</cp:coreProperties>
</file>